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3D3-2060-47D7-9D41-39BA37AC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B4E-813F-4F10-84AC-D886F86C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F1B3F-AC93-4A3B-B1AF-8796C841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9455E-D549-464B-A83D-1D9F6F6B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64751-B025-46C0-A600-4DEB25A9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4795C-BAF5-4BE3-9C52-95EFDCFD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966F7-ABDA-406C-A0B5-CA65DFEE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02199-E998-4E08-AA43-19B1B3DB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424EE-65CE-4ABF-BD93-0E15986A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F5BCB-CE71-402F-8371-EC1AAD48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BBA03-E602-4006-A74E-0687BC57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1EE41-E45F-44B3-B6BE-D4D15602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8D5-45B5-4E43-8513-DE3F6618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93F72-AAA1-401D-8C0C-169C50E8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F93BE-1806-42FA-8DC1-F2FB4EAC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78E4F-1FAB-49E8-9F53-5EC7270D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CB0D9-01ED-45C7-93FA-B2987BA9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F9561-0E32-4218-9929-67C4C8A2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4BA2E-7963-4962-BCE9-1C7C0547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06908-D588-44B1-B4A6-3724428F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4A3FD-D8D7-478D-A0A8-A881823D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28424-8E56-4AC6-8738-BA8A866D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CEE16-CE49-4733-AFAD-4C4978BB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AF3-3ECD-419F-A38E-7C071172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EB2A2-2289-4AE4-901F-409459D6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3B9DE-3B62-47F3-A665-3D853C0A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146CB-8B02-4510-B857-55F21F09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FE307-29CD-41D8-B869-01EB931A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0C0FC-6CF0-4060-9EA1-2609A032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A76A1-0288-4AA9-BAED-54FDFB5A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8D693-E131-4F52-AD17-15FF771E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B9B9F-5D9E-46DC-AA12-74593E84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66D1F-AE99-4425-9E0A-26045B36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91938-3E46-4BCF-B617-2BA4E86D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C197-EB55-41C8-8C5E-95414D55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06B8C-743A-4861-974D-2D31952E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7EB44-C197-42E3-AE26-50CBA3EA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DE0D2-914F-4748-8FCC-16D64226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BDEED-246D-42BD-B5F3-9FED6E6F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139D5-044F-40FE-B802-68EB803F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71407-0BC0-4144-A992-D3263DA2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A3707-A5E0-4994-AE86-16E0E0E8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B6CF9-3E12-4B03-AC24-CFEA3F1C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7E9BA-FCD8-4E94-87EC-1F5FB0DF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2D7E6-146A-4BB3-BE69-42B569FF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D828-156A-464B-8473-11F3630F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9F6CD-46C0-48E1-82E0-E9B818DF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C8078-667B-4D17-A15D-716BDADC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64066-5DA0-4323-B6C8-9FABA949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24A74-5CFD-46B6-90A3-624AEFA1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E3CB4-C901-491D-A6BB-5E48C591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DED80-CDEB-4D51-BB46-810B81F7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72E55-DECB-41CE-9F30-476BDB07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31401-8AA3-43A8-8B09-E0CE63FF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582B0-4019-432B-9A44-4ADA6ECB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9D7C7-E4C5-4720-8E36-D1EBC955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29DA-135F-48B1-9A31-A8E6042B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616D5E-52CB-4135-80E4-07F3FD56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4D873-CAE7-4075-806A-2B1715BD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B6AF5-17EA-43DA-B8AF-84A0DDFC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6A51C9-44C7-4E56-9BFE-DE6FA12C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5AB46-8775-41E9-BCE7-0BF3C073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1B635-FBA9-419E-974E-5F062CAD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C2EB0-7E28-4CB7-A84B-50072270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DABC3-9750-4E26-B35E-BB9442E4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6B281-02E1-4466-BB50-41D2FBCF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252A62-98F2-4EA1-84B8-B3CAF227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8115-2EBB-4FFA-8ECE-E99A0131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35A8A1-5BEE-4E23-80EB-1245AF5A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B055D7-E2B0-452A-9841-A3B23882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53E8F-4460-41DF-B5A6-29AB0674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A7A995-DAA3-46EA-AAF1-321E0672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96834-50E0-43C1-857B-B63556A3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4CE543-1783-43AF-8833-38C1856D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5F684C-DF81-4D76-801A-601D2284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2AF8A-8297-4C37-BA72-CF299C4E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D41CAA-E88C-41BB-8563-1D9CD4CB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4067E-E6D5-4009-9995-5731E022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C7B2-9F23-4A83-8BB9-233F0912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47254-9373-4D64-9383-490C12F3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FB724A-E798-4136-BB94-E6F95892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124A7-7539-4805-9F89-69F1A18D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32815F-B253-41F8-A24D-808B9854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B030A9-50B9-4D72-9E33-4E9B4FCE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270398-F7CC-4916-AB4B-5B1C4579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A5D24-17B2-4E7F-906E-40A39FD7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C875D7-71BC-4D3D-A6F0-24ED73B1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6C1F7F-F0F4-4DEB-AA7D-B6C35EFB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476A03-F247-4F2B-AE36-6EE39D21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8F7F-BB92-4AB0-A825-8FDCA8B0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E0B8A1-F312-48CC-8B3B-B8A90EB7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E695B-C26B-438F-9600-03C92174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7E394A-C05A-494C-9D23-BB52409D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C5691A-3C32-47B5-AB3B-83A53531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3F6BD-32A0-4ECE-A9D3-D98FA386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1C4C44-5802-46BA-8CFA-626D8C3C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6F338-0219-4659-B51D-394A003F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991234-3DEA-4199-B9C2-2EBC3FAB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E9CCF7-DCE2-47B3-A01F-6F7AED16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FED9AF-E068-4B63-91A3-208BFB97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3232-07F0-44DF-9C8B-DCB8D6B5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724A2F-C3E9-4FFF-9700-840D6268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D2988-3229-4B80-B11A-2CCBBC17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3E3E65-4827-421B-AD64-CAB469DD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F3FB65-573C-430E-A690-294DB215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82F1A5-5918-4E3D-AE51-B3A35EE4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D6BC49-F0BC-46CB-88CE-3E2C3763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41DAAD-0D6C-4B49-8D79-0C42392D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9C2F76-63E5-4B3C-A0C6-3F48F412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C7B8C8-73F7-4CA0-B1E7-AC8A654C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9E8F5B-CD4F-4FDB-9A92-47E783AD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9DD-B51E-4710-8788-97C60605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292B-1D5C-4293-9AB6-EE37E16F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3C8BD6-72AD-455B-8183-F3361838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A4FAEE-AD97-492D-8D11-0CBE36F9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A65756-4007-44DE-8BE9-14EB06B2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5A7752-DC16-4A5A-AD0B-B2FC9D69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1FEE9C-6EB4-4969-96A9-4E1A873C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DAC7D4-8CE2-4196-B2EF-161AC0D7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412056-A56B-475F-8FA5-A8F3C968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7303E5-61C2-43F3-87F8-679BEE3E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883452-D118-4FEB-A231-926263FB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10E703-2DB8-4B01-B870-AFCDE024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21CB-A183-49A9-A6D1-3845459B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F1CCFA-F022-4FCE-B08F-580408E4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A30D46-AB48-4F9E-8216-CFED6489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661C3B-3762-400F-A680-B0708A31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297F95-AED7-4AD7-8138-E1EBE866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834B83-5638-494A-AB75-522C6AC7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BE00CD-3F38-41B4-B726-DF4D4883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15B381-5921-4B63-A1CE-A5A079F7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0481AA-0096-41EB-9912-C5D39955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F5FE3C-88B9-4DB6-857D-02EDCFBB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59EA37-366D-443C-8A92-0DD69730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024E-AE5E-4DDB-92E2-0D45A053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D8FF0D-D29E-427D-AD56-EE2D6E35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BA1458-AF90-4D0B-ACF7-9E0570F8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342892-AD14-43BA-85CA-A4BE5229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EBBE32-2C8B-4BF8-936F-F437A901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0C9015-711B-43FD-B506-7300ACCC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A8D0CB-532E-4024-99F7-1F748685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38D5B2-E05E-44F8-9136-87183DE4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365862-DF9F-48B7-945D-3CFA2B46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C75A89-E893-44B3-8241-6A1AC34D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448570-6DD4-448B-BB88-3C253947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A63A-CAA7-4B22-9A3A-6740336A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E1DFD4-010D-401C-8076-ABAFC5CE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904560-81FB-4DFA-B436-C46C673B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091FD4-C1E3-4C47-B9F1-974AA0A1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EB8291-A393-4CCA-AFAE-9D42E255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72767E-CD44-4367-A4EB-41C5F89C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536577-08E4-4C09-B726-1D7C464C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C813A3-828F-46C7-9676-01084829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324B5A-CDE4-456D-9CB9-A1D47D91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A4C2B0-8ACE-49ED-A82A-E299EF7F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84159C-DD57-4A7F-AAFD-0B97B58F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664A-1684-4549-821C-394CA52E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9DD69C-9D13-4484-B1D6-5AB8AEA7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618AE2-2513-4E5F-82DD-A74D08C7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018979-466C-46A7-8514-D4E6FC04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FF597D-DB78-4848-ACC1-74928B3C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C27BE2-7858-4B03-8B0C-E875AEA9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06F0F0-F0B1-4A43-959D-A54AC259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5B6ED8-300E-44F4-A2D9-B413466B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FD4634-3CF3-40B5-8703-E39B5BE9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7E0209-8F70-4B1A-B559-E1EBC11A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1D138E-CB0B-4697-84EE-4BE733C4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5D5E0-E354-4F57-84D0-5F8C90EC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D68608-5C6E-4C5B-B8ED-8B441B26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4F61D4-E817-4344-9B23-597EFCCB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76841B-CB7F-4C79-9AAB-4F9C96F6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0E795-1191-4C28-9A24-5FCDA236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B638A-F97B-49B6-8014-6E995940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41436-33C2-4A1A-B1D9-1C0A49A7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58631-C9D6-4653-94C0-443D66AE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740-44EB-4A9B-8025-4855D87F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0A0D-F191-437C-B8CD-49D8D011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D771-E0F2-408F-A7AD-F1BB6606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73CFC-9BA6-46C1-8863-730EA21D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9ECA4-411F-40FF-BE43-5D8218C9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D0560-DD01-4C02-8149-2A8FDF39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621BF-FB77-420F-A0B8-1F050A0D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15405-F51B-4670-A8D5-908A06C6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CD5C0-8925-4FC5-8AD0-266F6C87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1B5EE-566C-449E-9F98-7052BB06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C239A-6BE6-4FDF-84B8-9756B11C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068-3EC4-4721-8C8C-AD392882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28254-C4F8-4394-8A6C-2795FDEE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20EDF-88C8-4543-9496-313AC347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995E7-4707-488E-AF3F-C5E6A630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88395-8F70-4C77-A604-54720481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BBC49-A6D5-4D6D-8FDA-C3691664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4CBDF-F70C-4EE0-9508-81047289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87C18-4B99-448E-A4F1-255C902C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BE251-C920-4A2D-940E-6BA19183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F3336-D263-40CC-AFC1-0C982012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F408A-D10B-48EC-B151-274AD6E2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529-2A53-4860-A9EB-42E13127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27A7D-A8B1-4BCF-8CE5-1C588344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F3D65-AACE-458E-9AEE-7A8A1AB0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59739-7ED6-42B6-8415-FEC6EFA1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DACF1-68A5-48E6-B1FE-83BB60E5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2D4A9-A53B-4749-8B05-8C50A8A1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5E50F-7E66-44EE-9A4E-256864ED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4DC87-06B5-4591-A74C-017F30A2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9809F-7874-445F-BCF8-0C3115E6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A33D1-CFF6-46FF-A167-5AB9D059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4B518-630A-4C11-83CB-C74A457E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9D5-1C73-41BB-87BC-4D05E221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FA448-D848-4A6E-8F37-68A4638C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1D8AC-4000-437F-ADB9-2F3AC945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B2A1D-384B-4C9A-B668-8D2B1F2F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AE569-6806-40C1-913C-B8F974F9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B865B-005B-40A4-93A5-BAE20E22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06438-A1B2-40AC-9E51-5CEE3133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21E53-F799-4799-8E3F-15A38C4B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DC105-54AF-4EA0-A7F1-62325E98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33E46-37D7-48FE-B8FF-A3352586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9359E-E150-4C41-86C1-EFE33D65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4F3F-8A3D-41CB-BC8A-6722679F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B2655-489C-4559-962F-3D78E5E8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771C0-C1CB-400C-AF4D-2AB4EC36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5FAE9-BCF3-407B-96BB-DCCF71AC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8D6C7-0AC3-4455-A6E1-8640C1AE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C4A8E-D1F8-440F-AA52-78B5A837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623D1-7234-4195-99E7-B83F8ADC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9E8A6-6D72-4C9A-BB7E-F5D5D4A5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D4E0E-A82F-418E-AD7D-DA3E9578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E52EE-8A1C-4CEF-9F5D-FC81DE02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F3E80-36C4-47F7-8911-6FEB5F11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421-8E39-4F10-884E-9DAB37C5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20105-93A1-478D-A436-4E8166E7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4347C-4380-4F87-B18F-8CDAE71C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F6B85-0A1D-45C2-8317-B9FCAEEE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72EC4-8F9F-4EEE-8AEE-FC11F5B8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CF7A3-49DA-4923-9144-BCDFA590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6A6E8-B3EF-47B7-B678-A1EE3605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DF6B3-57B5-457F-83EB-40EE0F29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FC2C6-403C-41FA-BD41-8E5AEBA7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96FC2-9F65-4D69-9FA5-389ED56F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1B656-8899-4D65-ACED-11730E50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083-D4A8-4945-A5DA-23ADC46A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078F8-3925-4736-8D67-5EA20AAF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DBE03-64BC-4AD5-88E4-D88C5039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6ADFA-3B0F-4443-9589-8F59182B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48E95-7E89-4133-97B1-E254D4FB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69855-DBCA-41E1-80A5-B372F9A2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2CEA0-08F4-4F83-B4D8-9F0A0407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59B6A-7856-4C2D-B334-B173504C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1A4B2-039B-47E1-9872-9E6A66F2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678A8-6E77-4AD4-8DE1-62F656F3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9597F-6FD8-4381-8D20-C55024DA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B175-43FC-40EA-A514-0CBBF604B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1939-09DF-4466-AF38-94E0797F0E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5237-5BB7-4483-AFC9-D90F953E71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ED4C-EA9B-4F05-B629-AFBD132F86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9927-8B82-4594-A71B-C2D1FD2599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B5A5-F7ED-492E-A27D-E13B41CD58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5413-2D38-48B6-9330-880374F831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D029-70B2-4FB5-9E92-0B4E763F00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5D31-539E-42DC-AF81-6DBF99311E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B82D-04C0-4FED-B508-D512C95DFB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6798-2515-4138-B74E-59E4C0ACA7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97D8-F69B-483B-BE84-9DBF26D73A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1AAF-CE11-4856-88A1-36BD0F5FF6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92B2-FF6E-4C73-923C-CDB8335953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03C2-5E95-4E5E-A8CD-1D5F96AF7C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C340-09B3-491C-A007-72E9D53A16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697D-5569-4B47-85D8-ABDB6D618A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8D89-4F49-46F9-BB45-E3E5A5F1D6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097B-7BCB-4261-9BFD-9439AA98DC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19A3-12BB-4195-AEC3-C434E8C16C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F4A6-D293-48B2-AC5F-C7903C9BB9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1E1E-7B17-447F-8BD2-F6E198196D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7629-C75D-4013-A77A-B039C78958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95BD-BCB5-4EF5-BCBA-77FE385513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55D4-1D85-44E8-8777-3B2CB9E32B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2690-4AA5-41D0-AD90-33B42BDC21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6850-1A37-498B-8AF3-D3B77EC899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C6D9-8C75-4F06-B884-ABC0A4074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52B6-5F4F-45F1-8EE5-F0AEE66126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FE4B-D1C0-4852-9A65-44455161F8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A096-6F8D-4F25-B44D-E529A5DFEE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F048-2B70-4C7B-8918-816D201517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F2DE-D8E3-4BEC-90CE-0A05E7D2B6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6ACE-D5A5-4E72-9A9B-8C4DF5AD9C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FA9F-00AF-40DF-84E3-870B4BE42E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BE42-E338-4D89-98C1-758DBF8769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06C7-1B21-4D75-912E-5A3B200866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8A96-E971-46D0-B615-70A06739F3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02D4-354C-4465-8CE8-2F505BEF8D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F71B-D77A-4752-B225-3E342973D5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2533680" y="3262320"/>
            <a:ext cx="40766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133200" y="1076400"/>
            <a:ext cx="8877600" cy="4924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4" descr=""/>
          <p:cNvPicPr/>
          <p:nvPr/>
        </p:nvPicPr>
        <p:blipFill>
          <a:blip r:embed="rId2"/>
          <a:stretch/>
        </p:blipFill>
        <p:spPr>
          <a:xfrm>
            <a:off x="1465200" y="2579760"/>
            <a:ext cx="243000" cy="2887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1465200" y="3000240"/>
            <a:ext cx="303120" cy="2876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4"/>
          <a:stretch/>
        </p:blipFill>
        <p:spPr>
          <a:xfrm>
            <a:off x="4446720" y="2617920"/>
            <a:ext cx="303120" cy="2872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"/>
          <p:cNvPicPr/>
          <p:nvPr/>
        </p:nvPicPr>
        <p:blipFill>
          <a:blip r:embed="rId5"/>
          <a:stretch/>
        </p:blipFill>
        <p:spPr>
          <a:xfrm>
            <a:off x="4449600" y="2952720"/>
            <a:ext cx="301680" cy="2872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6"/>
          <a:stretch/>
        </p:blipFill>
        <p:spPr>
          <a:xfrm>
            <a:off x="7332840" y="2589120"/>
            <a:ext cx="301320" cy="2872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7"/>
          <a:stretch/>
        </p:blipFill>
        <p:spPr>
          <a:xfrm>
            <a:off x="7323120" y="2981160"/>
            <a:ext cx="303120" cy="2876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"/>
          <p:cNvPicPr/>
          <p:nvPr/>
        </p:nvPicPr>
        <p:blipFill>
          <a:blip r:embed="rId8"/>
          <a:stretch/>
        </p:blipFill>
        <p:spPr>
          <a:xfrm>
            <a:off x="1465200" y="4132440"/>
            <a:ext cx="243000" cy="288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9"/>
          <a:stretch/>
        </p:blipFill>
        <p:spPr>
          <a:xfrm>
            <a:off x="1465200" y="4552920"/>
            <a:ext cx="303120" cy="2872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10"/>
          <a:stretch/>
        </p:blipFill>
        <p:spPr>
          <a:xfrm>
            <a:off x="4446720" y="4170240"/>
            <a:ext cx="303120" cy="2876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11"/>
          <a:stretch/>
        </p:blipFill>
        <p:spPr>
          <a:xfrm>
            <a:off x="4449600" y="4505400"/>
            <a:ext cx="301680" cy="2872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12"/>
          <a:stretch/>
        </p:blipFill>
        <p:spPr>
          <a:xfrm>
            <a:off x="7332840" y="4141800"/>
            <a:ext cx="301320" cy="2872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13"/>
          <a:stretch/>
        </p:blipFill>
        <p:spPr>
          <a:xfrm>
            <a:off x="7323120" y="4533840"/>
            <a:ext cx="303120" cy="287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14"/>
          <a:stretch/>
        </p:blipFill>
        <p:spPr>
          <a:xfrm>
            <a:off x="536400" y="2894040"/>
            <a:ext cx="1500480" cy="68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4" descr=""/>
          <p:cNvPicPr/>
          <p:nvPr/>
        </p:nvPicPr>
        <p:blipFill>
          <a:blip r:embed="rId15"/>
          <a:stretch/>
        </p:blipFill>
        <p:spPr>
          <a:xfrm>
            <a:off x="3294000" y="3255840"/>
            <a:ext cx="1500120" cy="66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4" descr=""/>
          <p:cNvPicPr/>
          <p:nvPr/>
        </p:nvPicPr>
        <p:blipFill>
          <a:blip r:embed="rId16"/>
          <a:stretch/>
        </p:blipFill>
        <p:spPr>
          <a:xfrm>
            <a:off x="500040" y="4454640"/>
            <a:ext cx="1500120" cy="68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4" descr=""/>
          <p:cNvPicPr/>
          <p:nvPr/>
        </p:nvPicPr>
        <p:blipFill>
          <a:blip r:embed="rId17"/>
          <a:stretch/>
        </p:blipFill>
        <p:spPr>
          <a:xfrm>
            <a:off x="3446640" y="4819680"/>
            <a:ext cx="1500120" cy="666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4" descr=""/>
          <p:cNvPicPr/>
          <p:nvPr/>
        </p:nvPicPr>
        <p:blipFill>
          <a:blip r:embed="rId18"/>
          <a:stretch/>
        </p:blipFill>
        <p:spPr>
          <a:xfrm>
            <a:off x="2079720" y="5357880"/>
            <a:ext cx="303120" cy="2872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19"/>
          <a:stretch/>
        </p:blipFill>
        <p:spPr>
          <a:xfrm>
            <a:off x="5214960" y="5357880"/>
            <a:ext cx="303120" cy="2872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20"/>
          <a:stretch/>
        </p:blipFill>
        <p:spPr>
          <a:xfrm>
            <a:off x="7937640" y="5357880"/>
            <a:ext cx="303120" cy="287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"/>
          <p:cNvPicPr/>
          <p:nvPr/>
        </p:nvPicPr>
        <p:blipFill>
          <a:blip r:embed="rId21"/>
          <a:stretch/>
        </p:blipFill>
        <p:spPr>
          <a:xfrm>
            <a:off x="2198520" y="5713560"/>
            <a:ext cx="301680" cy="2872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" descr=""/>
          <p:cNvPicPr/>
          <p:nvPr/>
        </p:nvPicPr>
        <p:blipFill>
          <a:blip r:embed="rId22"/>
          <a:stretch/>
        </p:blipFill>
        <p:spPr>
          <a:xfrm>
            <a:off x="4946760" y="5721480"/>
            <a:ext cx="303120" cy="2872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" descr=""/>
          <p:cNvPicPr/>
          <p:nvPr/>
        </p:nvPicPr>
        <p:blipFill>
          <a:blip r:embed="rId23"/>
          <a:stretch/>
        </p:blipFill>
        <p:spPr>
          <a:xfrm>
            <a:off x="7832880" y="5721480"/>
            <a:ext cx="30132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1" descr=""/>
          <p:cNvPicPr/>
          <p:nvPr/>
        </p:nvPicPr>
        <p:blipFill>
          <a:blip r:embed="rId1"/>
          <a:stretch/>
        </p:blipFill>
        <p:spPr>
          <a:xfrm>
            <a:off x="409680" y="1504800"/>
            <a:ext cx="8324640" cy="40672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3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2286000" cy="18097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"/>
          <p:cNvPicPr/>
          <p:nvPr/>
        </p:nvPicPr>
        <p:blipFill>
          <a:blip r:embed="rId3"/>
          <a:stretch/>
        </p:blipFill>
        <p:spPr>
          <a:xfrm>
            <a:off x="4714920" y="157176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"/>
          <p:cNvPicPr/>
          <p:nvPr/>
        </p:nvPicPr>
        <p:blipFill>
          <a:blip r:embed="rId4"/>
          <a:stretch/>
        </p:blipFill>
        <p:spPr>
          <a:xfrm>
            <a:off x="2268360" y="4008600"/>
            <a:ext cx="243000" cy="2887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" descr=""/>
          <p:cNvPicPr/>
          <p:nvPr/>
        </p:nvPicPr>
        <p:blipFill>
          <a:blip r:embed="rId5"/>
          <a:stretch/>
        </p:blipFill>
        <p:spPr>
          <a:xfrm>
            <a:off x="3357720" y="417672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6"/>
          <a:stretch/>
        </p:blipFill>
        <p:spPr>
          <a:xfrm>
            <a:off x="4564080" y="4016520"/>
            <a:ext cx="309600" cy="2872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4" descr=""/>
          <p:cNvPicPr/>
          <p:nvPr/>
        </p:nvPicPr>
        <p:blipFill>
          <a:blip r:embed="rId7"/>
          <a:stretch/>
        </p:blipFill>
        <p:spPr>
          <a:xfrm>
            <a:off x="5618160" y="4178160"/>
            <a:ext cx="241200" cy="287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4" descr=""/>
          <p:cNvPicPr/>
          <p:nvPr/>
        </p:nvPicPr>
        <p:blipFill>
          <a:blip r:embed="rId8"/>
          <a:stretch/>
        </p:blipFill>
        <p:spPr>
          <a:xfrm>
            <a:off x="6786720" y="4008600"/>
            <a:ext cx="357120" cy="2887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"/>
          <p:cNvPicPr/>
          <p:nvPr/>
        </p:nvPicPr>
        <p:blipFill>
          <a:blip r:embed="rId9"/>
          <a:stretch/>
        </p:blipFill>
        <p:spPr>
          <a:xfrm>
            <a:off x="8001000" y="4183200"/>
            <a:ext cx="357120" cy="2826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4" descr=""/>
          <p:cNvPicPr/>
          <p:nvPr/>
        </p:nvPicPr>
        <p:blipFill>
          <a:blip r:embed="rId10"/>
          <a:stretch/>
        </p:blipFill>
        <p:spPr>
          <a:xfrm>
            <a:off x="2257560" y="489276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4" descr=""/>
          <p:cNvPicPr/>
          <p:nvPr/>
        </p:nvPicPr>
        <p:blipFill>
          <a:blip r:embed="rId11"/>
          <a:stretch/>
        </p:blipFill>
        <p:spPr>
          <a:xfrm>
            <a:off x="3346560" y="505944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4" descr=""/>
          <p:cNvPicPr/>
          <p:nvPr/>
        </p:nvPicPr>
        <p:blipFill>
          <a:blip r:embed="rId12"/>
          <a:stretch/>
        </p:blipFill>
        <p:spPr>
          <a:xfrm>
            <a:off x="4568760" y="4898880"/>
            <a:ext cx="311040" cy="2890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4" descr=""/>
          <p:cNvPicPr/>
          <p:nvPr/>
        </p:nvPicPr>
        <p:blipFill>
          <a:blip r:embed="rId13"/>
          <a:stretch/>
        </p:blipFill>
        <p:spPr>
          <a:xfrm>
            <a:off x="5624640" y="5060880"/>
            <a:ext cx="241200" cy="2890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4" descr=""/>
          <p:cNvPicPr/>
          <p:nvPr/>
        </p:nvPicPr>
        <p:blipFill>
          <a:blip r:embed="rId14"/>
          <a:stretch/>
        </p:blipFill>
        <p:spPr>
          <a:xfrm>
            <a:off x="6792840" y="489276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4" descr=""/>
          <p:cNvPicPr/>
          <p:nvPr/>
        </p:nvPicPr>
        <p:blipFill>
          <a:blip r:embed="rId15"/>
          <a:stretch/>
        </p:blipFill>
        <p:spPr>
          <a:xfrm>
            <a:off x="8007480" y="5067360"/>
            <a:ext cx="35712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8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3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1" descr=""/>
          <p:cNvPicPr/>
          <p:nvPr/>
        </p:nvPicPr>
        <p:blipFill>
          <a:blip r:embed="rId1"/>
          <a:stretch/>
        </p:blipFill>
        <p:spPr>
          <a:xfrm>
            <a:off x="119160" y="880920"/>
            <a:ext cx="8905680" cy="33339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2" descr=""/>
          <p:cNvPicPr/>
          <p:nvPr/>
        </p:nvPicPr>
        <p:blipFill>
          <a:blip r:embed="rId2"/>
          <a:stretch/>
        </p:blipFill>
        <p:spPr>
          <a:xfrm>
            <a:off x="119160" y="4567320"/>
            <a:ext cx="8905680" cy="16477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4" descr=""/>
          <p:cNvPicPr/>
          <p:nvPr/>
        </p:nvPicPr>
        <p:blipFill>
          <a:blip r:embed="rId3"/>
          <a:stretch/>
        </p:blipFill>
        <p:spPr>
          <a:xfrm>
            <a:off x="428760" y="2014560"/>
            <a:ext cx="2071440" cy="3240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"/>
          <p:cNvPicPr/>
          <p:nvPr/>
        </p:nvPicPr>
        <p:blipFill>
          <a:blip r:embed="rId4"/>
          <a:stretch/>
        </p:blipFill>
        <p:spPr>
          <a:xfrm>
            <a:off x="214200" y="5000760"/>
            <a:ext cx="20718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1" descr=""/>
          <p:cNvPicPr/>
          <p:nvPr/>
        </p:nvPicPr>
        <p:blipFill>
          <a:blip r:embed="rId1"/>
          <a:stretch/>
        </p:blipFill>
        <p:spPr>
          <a:xfrm>
            <a:off x="109440" y="961920"/>
            <a:ext cx="8925120" cy="53247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4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2571480" cy="3236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4" descr=""/>
          <p:cNvPicPr/>
          <p:nvPr/>
        </p:nvPicPr>
        <p:blipFill>
          <a:blip r:embed="rId3"/>
          <a:stretch/>
        </p:blipFill>
        <p:spPr>
          <a:xfrm>
            <a:off x="500040" y="3268800"/>
            <a:ext cx="4357800" cy="3236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4" descr=""/>
          <p:cNvPicPr/>
          <p:nvPr/>
        </p:nvPicPr>
        <p:blipFill>
          <a:blip r:embed="rId4"/>
          <a:stretch/>
        </p:blipFill>
        <p:spPr>
          <a:xfrm>
            <a:off x="500040" y="3689280"/>
            <a:ext cx="2714760" cy="3240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4" descr=""/>
          <p:cNvPicPr/>
          <p:nvPr/>
        </p:nvPicPr>
        <p:blipFill>
          <a:blip r:embed="rId5"/>
          <a:stretch/>
        </p:blipFill>
        <p:spPr>
          <a:xfrm>
            <a:off x="428760" y="4767120"/>
            <a:ext cx="4143240" cy="3240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"/>
          <p:cNvPicPr/>
          <p:nvPr/>
        </p:nvPicPr>
        <p:blipFill>
          <a:blip r:embed="rId6"/>
          <a:stretch/>
        </p:blipFill>
        <p:spPr>
          <a:xfrm>
            <a:off x="428760" y="5180040"/>
            <a:ext cx="335736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Picture 1" descr=""/>
          <p:cNvPicPr/>
          <p:nvPr/>
        </p:nvPicPr>
        <p:blipFill>
          <a:blip r:embed="rId1"/>
          <a:stretch/>
        </p:blipFill>
        <p:spPr>
          <a:xfrm>
            <a:off x="942840" y="928800"/>
            <a:ext cx="7258320" cy="57150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2" descr=""/>
          <p:cNvPicPr/>
          <p:nvPr/>
        </p:nvPicPr>
        <p:blipFill>
          <a:blip r:embed="rId2"/>
          <a:stretch/>
        </p:blipFill>
        <p:spPr>
          <a:xfrm>
            <a:off x="7429680" y="4643280"/>
            <a:ext cx="847440" cy="10861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4" descr=""/>
          <p:cNvPicPr/>
          <p:nvPr/>
        </p:nvPicPr>
        <p:blipFill>
          <a:blip r:embed="rId3"/>
          <a:stretch/>
        </p:blipFill>
        <p:spPr>
          <a:xfrm>
            <a:off x="2000160" y="2714760"/>
            <a:ext cx="2071800" cy="3236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" descr=""/>
          <p:cNvPicPr/>
          <p:nvPr/>
        </p:nvPicPr>
        <p:blipFill>
          <a:blip r:embed="rId4"/>
          <a:stretch/>
        </p:blipFill>
        <p:spPr>
          <a:xfrm>
            <a:off x="1785960" y="3714840"/>
            <a:ext cx="3214800" cy="3236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4" descr=""/>
          <p:cNvPicPr/>
          <p:nvPr/>
        </p:nvPicPr>
        <p:blipFill>
          <a:blip r:embed="rId5"/>
          <a:stretch/>
        </p:blipFill>
        <p:spPr>
          <a:xfrm>
            <a:off x="1928880" y="4125960"/>
            <a:ext cx="3857400" cy="3236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4" descr=""/>
          <p:cNvPicPr/>
          <p:nvPr/>
        </p:nvPicPr>
        <p:blipFill>
          <a:blip r:embed="rId6"/>
          <a:stretch/>
        </p:blipFill>
        <p:spPr>
          <a:xfrm>
            <a:off x="2311560" y="5294160"/>
            <a:ext cx="242640" cy="2890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4" descr=""/>
          <p:cNvPicPr/>
          <p:nvPr/>
        </p:nvPicPr>
        <p:blipFill>
          <a:blip r:embed="rId7"/>
          <a:stretch/>
        </p:blipFill>
        <p:spPr>
          <a:xfrm>
            <a:off x="5429160" y="5286240"/>
            <a:ext cx="285840" cy="2876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4" descr=""/>
          <p:cNvPicPr/>
          <p:nvPr/>
        </p:nvPicPr>
        <p:blipFill>
          <a:blip r:embed="rId8"/>
          <a:stretch/>
        </p:blipFill>
        <p:spPr>
          <a:xfrm>
            <a:off x="2786040" y="580392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4" descr=""/>
          <p:cNvPicPr/>
          <p:nvPr/>
        </p:nvPicPr>
        <p:blipFill>
          <a:blip r:embed="rId9"/>
          <a:stretch/>
        </p:blipFill>
        <p:spPr>
          <a:xfrm>
            <a:off x="3143160" y="5786280"/>
            <a:ext cx="1571760" cy="276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4" descr=""/>
          <p:cNvPicPr/>
          <p:nvPr/>
        </p:nvPicPr>
        <p:blipFill>
          <a:blip r:embed="rId10"/>
          <a:stretch/>
        </p:blipFill>
        <p:spPr>
          <a:xfrm>
            <a:off x="5429160" y="581184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4" descr=""/>
          <p:cNvPicPr/>
          <p:nvPr/>
        </p:nvPicPr>
        <p:blipFill>
          <a:blip r:embed="rId11"/>
          <a:stretch/>
        </p:blipFill>
        <p:spPr>
          <a:xfrm>
            <a:off x="6643800" y="5786280"/>
            <a:ext cx="1857240" cy="2764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4" descr=""/>
          <p:cNvPicPr/>
          <p:nvPr/>
        </p:nvPicPr>
        <p:blipFill>
          <a:blip r:embed="rId12"/>
          <a:stretch/>
        </p:blipFill>
        <p:spPr>
          <a:xfrm>
            <a:off x="1778040" y="631188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4" descr=""/>
          <p:cNvPicPr/>
          <p:nvPr/>
        </p:nvPicPr>
        <p:blipFill>
          <a:blip r:embed="rId13"/>
          <a:stretch/>
        </p:blipFill>
        <p:spPr>
          <a:xfrm>
            <a:off x="3000240" y="6286680"/>
            <a:ext cx="1571760" cy="2761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" descr=""/>
          <p:cNvPicPr/>
          <p:nvPr/>
        </p:nvPicPr>
        <p:blipFill>
          <a:blip r:embed="rId14"/>
          <a:stretch/>
        </p:blipFill>
        <p:spPr>
          <a:xfrm>
            <a:off x="5929200" y="628668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4" descr=""/>
          <p:cNvPicPr/>
          <p:nvPr/>
        </p:nvPicPr>
        <p:blipFill>
          <a:blip r:embed="rId15"/>
          <a:stretch/>
        </p:blipFill>
        <p:spPr>
          <a:xfrm>
            <a:off x="6589800" y="6311880"/>
            <a:ext cx="30168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Picture 1" descr=""/>
          <p:cNvPicPr/>
          <p:nvPr/>
        </p:nvPicPr>
        <p:blipFill>
          <a:blip r:embed="rId1"/>
          <a:stretch/>
        </p:blipFill>
        <p:spPr>
          <a:xfrm>
            <a:off x="3848040" y="2095560"/>
            <a:ext cx="1447920" cy="41911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4" descr=""/>
          <p:cNvPicPr/>
          <p:nvPr/>
        </p:nvPicPr>
        <p:blipFill>
          <a:blip r:embed="rId2"/>
          <a:stretch/>
        </p:blipFill>
        <p:spPr>
          <a:xfrm>
            <a:off x="4865760" y="28749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4" descr=""/>
          <p:cNvPicPr/>
          <p:nvPr/>
        </p:nvPicPr>
        <p:blipFill>
          <a:blip r:embed="rId3"/>
          <a:stretch/>
        </p:blipFill>
        <p:spPr>
          <a:xfrm>
            <a:off x="4786200" y="326556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4" descr=""/>
          <p:cNvPicPr/>
          <p:nvPr/>
        </p:nvPicPr>
        <p:blipFill>
          <a:blip r:embed="rId4"/>
          <a:stretch/>
        </p:blipFill>
        <p:spPr>
          <a:xfrm>
            <a:off x="4857840" y="36766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4" descr=""/>
          <p:cNvPicPr/>
          <p:nvPr/>
        </p:nvPicPr>
        <p:blipFill>
          <a:blip r:embed="rId5"/>
          <a:stretch/>
        </p:blipFill>
        <p:spPr>
          <a:xfrm>
            <a:off x="4786200" y="41054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4" descr=""/>
          <p:cNvPicPr/>
          <p:nvPr/>
        </p:nvPicPr>
        <p:blipFill>
          <a:blip r:embed="rId6"/>
          <a:stretch/>
        </p:blipFill>
        <p:spPr>
          <a:xfrm>
            <a:off x="4786200" y="451656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4" descr=""/>
          <p:cNvPicPr/>
          <p:nvPr/>
        </p:nvPicPr>
        <p:blipFill>
          <a:blip r:embed="rId7"/>
          <a:stretch/>
        </p:blipFill>
        <p:spPr>
          <a:xfrm>
            <a:off x="4857840" y="49449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4" descr=""/>
          <p:cNvPicPr/>
          <p:nvPr/>
        </p:nvPicPr>
        <p:blipFill>
          <a:blip r:embed="rId8"/>
          <a:stretch/>
        </p:blipFill>
        <p:spPr>
          <a:xfrm>
            <a:off x="4786200" y="53546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4" descr=""/>
          <p:cNvPicPr/>
          <p:nvPr/>
        </p:nvPicPr>
        <p:blipFill>
          <a:blip r:embed="rId9"/>
          <a:stretch/>
        </p:blipFill>
        <p:spPr>
          <a:xfrm>
            <a:off x="4879800" y="5748480"/>
            <a:ext cx="3794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7:22:49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